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362-06EE-4E9A-AC27-1B778034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DF77-C946-4A42-849B-8B8B55C3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038-20BF-4D0D-AD03-97417815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insert this slide into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this template as a presentation (.ppt file) on your comp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he presentation that will contain the imag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, place your insertion point after the slide that will precede the image slide. (Make sure you don't select a slide. Your insertion point should be between the slid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nu,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Fin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Pres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locate and select the presentation that contains the image slide, and then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select the imag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ep source format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ck box. If you do not select this check box, the copied slide will inherit the design of the slide that precedes it in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7B7-3635-4EEF-9583-3A785941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0B3-06CB-4012-93F7-3D8FF397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527-1B12-4B36-AE83-AB36088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9F2-FB5C-4418-862A-B83CAE7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FE3-3795-4A79-8C6B-9CD604B5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3989-CA7B-4B5D-AD40-46E56EC2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B63-649B-45CA-ABA6-C41E3C1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2CA-41BC-47E6-9F57-C95ABA7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6352-D5A3-4EC7-97FD-F3DF802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657-318A-44AD-97A8-B439D2E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4ECD-7AC1-4CF2-A0AB-372DC73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1C7A-3712-4A17-8E39-79B0D3A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DDC-B86D-4A1C-8200-F8941A4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6EB6-6A5E-480F-B44E-6246FE14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3C95-3752-4BC2-9A04-F32ACC9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B94-998F-4117-8AE4-F5515E86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03A-6194-493C-9B2E-C3F5F463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5CA-4627-41CF-AC9F-16216975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06C9F-915F-4F84-B369-621FF99F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84B0E-DCCB-4396-B186-ADDC1D9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1AC54-99F5-4DA5-B95E-C75CB71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E9E99-0D1D-4891-9EBE-7895FF9C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3E944-7C36-414B-B63E-80C3CEA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A2F-E819-4C4F-AF4F-631B224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35CD0-38AB-4EAB-82EA-46072A1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97591-C618-41BD-90FB-961BBBE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03127-E546-43D4-ACE6-A2D6197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0099-408A-4B80-A75D-E587781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B8671-A57B-4EA4-A669-0616DE0C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B6BFC-9FE9-4270-9A44-9E092095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F395F-C242-4672-9444-D3924137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EECC5-DA0A-4A6A-9F9C-E07A40D8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D73D0-06A7-4908-AAB5-E07679B1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6910C-182A-4BE1-AEF2-B2BDBB3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B5C-5986-4079-A1C2-1418AB2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35ECB-4D1C-46CC-BD5F-FB545A3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5C5AB-8A9B-41F0-97A8-2901184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0D8D5-A377-4B61-AED5-A414EABB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563DB-C837-4E36-B7CF-BD7F07C1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95958-A260-4F4B-BB02-CB2B4FA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1B5EA-3ADE-4E1B-8318-40BF0DA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774F6-A731-4660-B5C5-F720637A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2631E-CBD2-48F3-B6C3-9CFCFF3D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AC20D-6F29-46B2-9EB7-903407E8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9A52A-9B25-427A-85DB-A366E4E8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227-77BE-4697-ABB4-7C12A35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CFE04-2E84-4677-BDA7-70B3658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3B0B0-8770-465C-81CC-F2E0B653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B4DAE-64E9-4181-93D7-04FC9488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FE033-1EF7-4A2D-B416-A3575EC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9C7B2-690F-4858-A5D7-B717C083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200AF-42B5-4667-97A2-A1EE06B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5656B-323E-4B7D-B0AE-9D2CAC5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F7436-FE8A-424B-8E50-C1CAD063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E2A7C-7002-48B9-8AB3-47F5BC2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B0E3D-66F9-447C-B97A-63749B4D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6B2-982C-43CE-9374-74BE308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4F6AE-D30B-44F6-9EBE-7A78C631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FAED-ECAF-40C3-81A3-970D18C8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1B85-868D-45A4-9795-9BBBC79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1143-2181-4806-9D49-6B855F2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DC78-9BC5-44E9-91F6-A792EF52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17DE-A299-49A2-84DA-F11EDEB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9FDB-E621-4EBA-91E8-AC192C1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AD79-0AFE-4521-92F6-CD18339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266D-DD34-476D-B3AD-17AAA4D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8869-E298-4786-B12E-56CD4B71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98C-4AE1-40B8-A95A-884C9E8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A1DD-75A3-4EB1-906A-C8ABE857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8B58-D31E-4210-A872-B518A8BD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AC0A-7900-464E-A712-FB87D0B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2A324-75BA-48C5-A7FB-15F05393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CD103-23CB-4025-824D-6111F251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866E4-E03C-4A45-9F42-E871510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CEDA6-2646-426A-9F1B-6C70032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25FFB-6589-4989-9E45-16EDD7F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11879-10B1-40A7-99C5-950E52B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AF711-71D1-4CAC-B4F3-90A7CA8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A6D-A0C0-48FC-AB27-43533DE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4D6F1-BB84-4381-8205-37057A9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DDF3F-BE69-4EA7-9BD3-D6B52B3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CBF56-16D8-4512-A2F5-BD97555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E4E83-6D0C-4B9B-8DDC-877DFAE8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8164C-7BDA-41E0-B317-BB1BF73A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352A1-30F5-4D69-8A1A-F5EF1B9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8B05A-29A5-4719-8EA6-6F8F9F2B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1ABFE-C262-40CB-A7BD-DAC745A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1D08B-8474-4A3B-A3D0-005E9E7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A49B-6AB2-44DA-8CE1-CC81F6C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B94-991D-4475-AED2-40AC6EE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A7206-6557-4361-84C9-A04B1F56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A121-AEB1-4561-962B-2B00886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1D9AD-4EEF-4839-85E0-198307A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38956-E67D-4E8E-9CC5-0A3FED5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10BC-E40C-496B-A5B5-134B8450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E018-EC9C-4B60-96D7-DA23B89E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4A3C-C3BE-4A4F-B1AA-58BBAD90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5A15-22F8-4076-BCBE-4A43C156ED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4DC-512B-490A-BA6E-64DF5D46F50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33F-C65F-45B3-9779-7658C9460CB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49BE-13F5-4552-961B-B0A1CE790D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E61-AC51-41BB-8268-897E0C2DBA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2985-177E-4DAD-B7B0-E8733E557D1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6BC8-51DA-483B-9B64-94F32A8AF1F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4AC3-469D-4D1D-9B94-B420213922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1330200" y="415800"/>
            <a:ext cx="642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lant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rojec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nelle Esh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Water lilies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"/>
          <p:cNvSpPr/>
          <p:nvPr/>
        </p:nvSpPr>
        <p:spPr>
          <a:xfrm>
            <a:off x="2647800" y="1947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232000" y="996840"/>
            <a:ext cx="52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1152360" y="2801880"/>
            <a:ext cx="682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rojec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nell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he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udent S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uter generated po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readsheet and grap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urn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fol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idspi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izmo t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quest For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gestions and comments welcom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j0402208"/>
          <p:cNvPicPr/>
          <p:nvPr/>
        </p:nvPicPr>
        <p:blipFill>
          <a:blip r:embed="rId1"/>
          <a:stretch/>
        </p:blipFill>
        <p:spPr>
          <a:xfrm>
            <a:off x="317520" y="0"/>
            <a:ext cx="854532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1496880" y="5356080"/>
            <a:ext cx="58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 did i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nit Summar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udents will investigate and understand that flowering plants undergo a series of orderly changes in their life cycles. Students will be growing plants and charting growth. They will label the parts of a flowering plant, describe what all plants need to survive, and examine how plants reproduce. They will engage in experiments to observe how water and temperature affect plant growth and keep a journal of observations. Group work, email, and independent research will be used to teach collaboration skills. Students will use checklists, charts, graphs and a rubric to evaluate their group and individual succes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urriculum-Framing</a:t>
            </a: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ues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sential Ques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do we need to survive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it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y are plants importa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basic parts of plant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you describe a plant life cycl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 water and temperature affect plant growth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 plants reproduc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do all plants need to survi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art of a flowering plant stores the seeds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w does water travel from the ground to the other parts of the plan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arts of plants do you ea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happened to the plant we did not water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happened to the plant we overwatered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lant grew best the one in the freezer or the one in the sun? Why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did you find inside the lima bean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 plants need air to grow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Proj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ject will help students develop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 through the follow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ing collaboration and group wo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engthening their ability to frame, analyze, and solve proble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roving communication skil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tting and meeting high standards and goals individually and in group intera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Gauging Student Needs Assess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idspriation ac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rainstorming and journ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lists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readsheet data e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uizmo t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itten test and teacher obser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ubric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Object 4" descr=""/>
          <p:cNvPicPr/>
          <p:nvPr/>
        </p:nvPicPr>
        <p:blipFill>
          <a:blip r:embed="rId1"/>
          <a:stretch/>
        </p:blipFill>
        <p:spPr>
          <a:xfrm>
            <a:off x="3117960" y="2536920"/>
            <a:ext cx="506160" cy="3967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5" descr=""/>
          <p:cNvPicPr/>
          <p:nvPr/>
        </p:nvPicPr>
        <p:blipFill>
          <a:blip r:embed="rId2"/>
          <a:stretch/>
        </p:blipFill>
        <p:spPr>
          <a:xfrm>
            <a:off x="3876840" y="2549520"/>
            <a:ext cx="4460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y Goals For The Cour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technology to improv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te an interactive uni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ke learning more enjoyable for my 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del ways students can access 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inform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als For My Stud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to work as a team memb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f assess their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ake responsibility for their own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21 century skills to enhance their education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35:48Z</dcterms:created>
  <dc:creator>veshelman</dc:creator>
  <dc:description/>
  <cp:keywords/>
  <dc:language>en-US</dc:language>
  <cp:lastModifiedBy>veshelman</cp:lastModifiedBy>
  <dcterms:modified xsi:type="dcterms:W3CDTF">2009-04-18T12:57:01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00021033</vt:lpwstr>
  </property>
</Properties>
</file>